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0DA-80FB-4594-8DE5-BBF73E4E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BEB-7B76-48C8-B9FA-FB043E88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7D9-7849-4EE5-B775-720CB64D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B4D-8081-465A-8C05-C5C744D5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84B8-E6CC-4D8B-B90A-0F13C017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BDAB-9C25-4D89-8B02-E0BCAA99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0E3C-B19E-4079-8F83-70B4472D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C67D-155A-4E62-AB61-45CCD2A6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91D8-C772-4E04-AF24-5642429B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BEED-666F-4DC7-887A-87D134C6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1757-A64C-4B40-A716-3C6C9F23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584-69C1-47CA-A483-566ABEB8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20B2-8D9D-4615-AB4E-F9BFCB4F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B63A-C6B3-40B0-A5C1-D3D61E71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4398-E10C-4ABD-9E4B-F99556F6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9FF4-CEA2-45DB-AC28-7B3D1741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2511-592A-450B-A627-2446192A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A36-CF42-4596-8C4C-351D9EB5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DEA-2200-431B-92F6-28392EB7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312-2EE8-4ED7-9040-B549BFB2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8CD-839E-42B9-AEAA-ACE2708B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BB9-41BE-4CCA-9785-886F5A5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67F-BB19-415A-9422-C2FB0D0A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377-E965-4E17-8CDF-83E89814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2957-F98A-46E4-9951-005195921D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8C14-DCD6-4642-9B35-696F665E56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G-RSM CVS System at ECP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eki Kanam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ipps Institution of Ocean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nual RSM Work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ly 2006,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Regional Domai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m/def/rsm6228r54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rd, jgrd, cigrd, cjg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rd has to be a product of integer powers of 2, 3, and 5. On IBM, integer power for 3 cannot be more than 2. jgrd has to be an odd number. cigrd and jgrd are coarse resolution regional file paramters for cr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PROJ, RTRUTH, RORIENT, RDELX, RDELY, RCENLAT, RCENLON, RLFTGRD, RBTMG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libs/etc/prmap to choose a dom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Utility Programs in libs/etc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: returns date of sigma and surface fi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hou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_date_grib: change the date in grib files (r_pgb.ftxx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map: creates ctl file for GrADs from r_pgb.ftx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mean: creates average of r_pgb.ftx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dte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hou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d: returns julian day fr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map: used for choosing the domain. reads igrd and jgrd in rsm/define.h and domain paramters in rsm/rsim script and creates prmap.ctl which is opened in GrADs for displ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put Files (for RSM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iles from the data server at E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hourly R1 (NCEP/NCAR Reanalysis): r1/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hourly R2 (NCEP/DOE Reanalysis): r2/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sst.grib: sfcanl/ direc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ice.grib: sfcanl/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ftp dataman@tsuzumi.ucsd.edu (password: data_e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put Files (for CRSM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le coarser resolu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iles from ecpc.ucsd.edu (Jack Richi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stomized sub-domain data from GSM forecasts initialized by NCEP daily operat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a binary r_sig files and then use scnvrt and r_inpg to interpolate them to the target regional gr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Input Fi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supported, but it should not be too difficult: ERA-40 Reanalysis, NCEP daily operational analys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bs/etc/scnvr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/runscr/r_inpg: interpolation (both horizontal and vertic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peri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SM (use networked machine): use R1 files as boundary conditions; run rsm script for testing; run rsim script for 2002 Nov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downloading files from ECP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SM (use non-networked machine): use Jack’s GSM output (L18) over Vietnam; run csim script at L18 for 2006 Jul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ime allows – run RSM with rsim script for 2002 Nov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 Vietnam and run CRSM with the output and csim 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 CVS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nongnu.org/cvs/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 and Fortran compilers required (we usually use portland group compilers on Linux machin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environmental variable CVSROOT (e.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env CVSROOT :pserver:anoncvs@rokka.ucsd.ed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rokka1/kana/cvs-server-root/cpsc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$ cvs co Install [Note Capital “I”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get “inst” and “install” scripts. “inst” is a wrapper script that calls “install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/inst [model version] [topography option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model version] rsm_frozen, rsm_latest, crsm_frozen, gsm_frozen, gsm_latest, scm_la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topography option] hi (use 30 seconds gtopo30 topography) or lo (use 4minutes topograph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er will ask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model [rsm/gsm/crsm/sc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hine architecture [single/thread/mpi/hybri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itution [ecpc/sdsc/ncar, etc] choose ecpc if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hine name [ibmsp/dec/cray/intel/linux, et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olution [e.g. T62L28 r54x55, T62L28 r8167c5487] you have to create resolution definition files in rsm/def if you want to define your own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script [rsm/rsim/csim, etc] rsm is for testing purpose (48hours integration). rsim is for downscaling with global files. csim is for crsm (c2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hoose to use “install” scrip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/install --model=[rsm/gsm/crsm/scm] --version=[…] --enable-[numerous options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osu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noa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zc : Zhao-Carr cloud water sche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sy3n: Song-You Hong cloud water sche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sy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sy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sas: SA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cmcnv: NCAR CCM3 Zhang McFarlane conv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baseout: post processed basefield output (r_bpgb.ftxx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CVS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co [modu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update [fi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diff [fi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log [fi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use options such as –r (version), -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Model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bs : library, utilities, independent of model resolution but machine 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m (or crsm): source codes and binaries, model resolution 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rsm/def/rsm6228r54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: run scri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/runscr: run scripts called by rsm/rsim/cs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/expscr: templates for rsm/rsim/cs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Building the model without install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libs, $ configure-li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r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edit rsm/def/physics.h, misc.h, debug.h, diag.h to change model options such as KF2 (Kain Fritsch convection) that is not supported by --enable-xxx with installer scrip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$ configure-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runs, $ configure-scr [rsm/rsim/csim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Other things to not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stacksize to unlimited, otherwise rmtn.x f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20:55:00Z</dcterms:created>
  <dc:creator>KANAMARU Hideki</dc:creator>
  <dc:description/>
  <dc:language>en-US</dc:language>
  <cp:lastModifiedBy>KANAMARU Hideki</cp:lastModifiedBy>
  <dcterms:modified xsi:type="dcterms:W3CDTF">2006-07-20T21:38:52Z</dcterms:modified>
  <cp:revision>83</cp:revision>
  <dc:subject/>
  <dc:title>G-RSM System at ECPC</dc:title>
</cp:coreProperties>
</file>